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9B1-6B8C-4D1C-A3FE-603B8414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F1F-60FB-488F-B7DE-9D10DFDF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B5A97-130A-4107-ACBD-7EF4BCA1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BA397-C3CF-4172-A99E-E8563CEB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90A08-C008-4B64-B5BC-ED99F2C9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0D099-6108-4251-A0FB-77132D34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F003F-B707-4205-87DB-2016301F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EAC57-A5EE-4FC4-B27F-ADD99BB9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49631-993E-47A7-9530-948BDBF7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5D2DC-C475-4F31-AF73-EFD11F17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2C62C-6D27-49F8-AC6F-4B78948C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30D86-C773-4DD9-A112-1C05F7B0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202-0A13-4727-ADBA-BC094CC8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188B1-2AE8-4C54-847D-2027146F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BA9B0-FAAB-4006-BEF6-3E80B829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8E4D5-E6FE-4EB9-9A90-38C974AC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4D9FC-084A-47EA-B751-A1FF7453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A0508-4039-4367-88D4-1F1BF07F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C87B9-1B01-4091-B8D2-D7F1A518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15B4C-391D-4EC1-AB47-970118BE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B0B6E-8622-4A9B-85C2-C11BA51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5252B-70BD-4C42-800E-9F1DB23E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86AC6-AE61-45D2-9F9C-5FBDF0E2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A52-AD81-4F48-B1C3-6DE42F1E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D2AAA-BC6E-4CE1-87AA-3F0BBE28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78716-CD34-4F0C-829D-260E55F3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CBA67-3DC5-4149-BFE5-61549010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CA01C-5F65-4678-9D05-649C82FE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0AD07-29AD-4BA2-BE88-475FF31D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95E4B-B597-40DF-95A4-739AC8BE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92369-974F-457C-BD0F-CB098EA2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41915-1DF1-453E-A8A2-723F4F97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6606A-92A9-488C-A1B5-0BE26F67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88155-34DE-44BD-BF00-0A1E39C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0DAD-39B7-443D-BDFB-8A2BCE09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638C2-6500-453F-BC7C-99380218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2B235-40EE-4364-B4E2-BCE1A860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4E97-3A33-401C-B218-CD0E1D33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517C-7950-4B6E-943C-CBA4C931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BC9C-3FF7-4881-AE74-25E4C6FC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EADD-1717-4FF5-B334-3D5B6A83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E3CF-F9C6-4CD6-B226-4DB67019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D3CC-8F0A-435A-9634-11CB7438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4FB9-6B03-4B5B-8A71-B66B49E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382-DB2D-44DA-9D86-7B4060A6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132C-E0EA-4BCD-85E7-FB615E8A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5E52-2D3D-4944-92D7-7FA410F8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952E-7D25-469E-B759-1CBFA29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7EA5-6EA0-411E-98E8-1A2E318B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85FF-6E72-4626-8D68-34EC6E5B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02A5-738A-4E37-94AD-A01AB570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D53D-2F00-46CF-8415-1B0DC8B8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750F-FE63-4BE4-A0C4-4F6F39A3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4141-D0F3-4886-8ED4-264B3024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72DA-3F57-43BB-953E-29A1EF21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6F5-34F1-412D-950D-6482F372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AFCD-E987-4995-AC2D-94366B30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FCE1-3CCA-4830-95BB-E6FA293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B4CF3-0BFB-4C04-BF66-D689803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D4F5-5EED-4955-A66D-45744EED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3037-AF94-4DDF-BCC3-0DF52AC7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9EFF-8936-4DEB-9580-FAC80748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681D-7EA8-45F5-80C6-FF3E733D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F43E-0D7C-4A39-9788-B9501670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6BC2-9DBC-41DC-824A-76F19576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F6047-4C92-4A80-8338-1DDF5E7B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1F9-30F4-442C-A24F-403CA37E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9E00-2F7C-4D4B-A1A4-147C3433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AE6E-8FD9-42D2-AEA4-0D472022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06B0E-76AF-4EF8-8250-7A84836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B596-E987-4B62-B968-3FBC47FE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BC0B-5987-460E-AAB0-F0F5A1F6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E31F-7863-4105-BA8E-3A6E86B7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44A40-F9C4-445D-9D47-1DB9B8A8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7459-8253-4817-BD2A-2D3D0BD5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FB98-FFE0-456B-9C78-0C16ED37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DF1AC-BA20-440B-9187-702127AC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D9B-8B25-4FA4-8321-C29E35A0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0B280-216F-4DE7-BA76-AAED02DA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A0D10-A89F-4F01-9D1A-7538CE42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35C58-197D-404A-BA7B-62323547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7F8D3-81FC-418B-BC6D-090C087E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2F65-FA79-4DA6-9314-3C52CD14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48A70-7109-43F9-A758-9C3C413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8618A-0C6C-4139-8E9A-48ED45A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A400E-7D45-40F8-B614-5BE5A9D0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8DEF-648B-4B7F-90E0-EEC32A12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B5445-1167-40CA-8DE5-1CD289BB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8FF-0E51-4673-99FE-FE593967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D5D9B-962C-4761-BF99-8401FB75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70242-016D-4026-8B34-B4C38372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42091-28D0-4DF6-84F3-02C08F76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A4BD2-3F82-4022-85F2-E918CFFC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BED96-87C9-489A-857A-1DD4AD4A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8780A-C2C8-4348-A897-6A3EDE38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5135-E498-42CA-A458-6982BE6E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7CDEE-4F48-41AF-9FD8-B44A346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F365-DCBB-4F69-B652-45ECF201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2088D-5434-46A6-9E68-F441C827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B3D-64BF-483F-B2A0-58C70705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35F03-8475-41CE-A948-1B2C10BE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D420-531E-40E8-AF81-41A03F27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55B53-5100-403A-9A65-9D0CFA2F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3F10F-8C2D-4B63-9100-79BCFD2E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12354-B884-42A3-B300-3127966E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FC330-48ED-4604-BA40-34690707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2FA6-E8C7-43B3-9F26-519C5F54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254B8-893E-48EA-9769-39C6F480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5BA75-9A2D-473F-96E4-E09F0999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2C2F5-4D1B-4CD9-A818-9445A4C5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747-1333-4279-8A38-E028236E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5C03F-7475-4E1C-967B-8B21E0D9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C4559-FB9A-4391-B54E-95C7E724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F85EB-A7A0-4D6C-990E-058E3EB0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41125-FD34-4AF0-832D-FB9AD9D7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5A8A9-F17F-4A34-9C5C-3150BDB3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AAAB4-3E85-448C-AD9C-496AA748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E621C-301F-403E-ACD3-94AA5099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A50BA-F980-4650-B132-CD550EB5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822E5-EF4E-4F05-A9C7-0152B097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C4356-7D79-4F7A-9AC4-3456624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F6D-5E67-43E2-A681-A18304F2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013BF-EDB6-47F2-8153-D54B0161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C350-1FCE-4926-9286-5DB3C107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EA5E5-ED76-4E6E-9F42-B147286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0C87C-6600-4DD9-A5CC-98E01288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3649B-2A7E-485B-80D9-AF01C3E1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116E0-B355-49E9-827B-DD1F4D24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726E5-754C-4C79-873B-B7EEAC42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34F15-5DC8-4E81-A251-BD65AD08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27AC8-417C-4F25-979C-5CF5407A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66524-FF01-445F-B805-FA37591E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0B76-A02C-46B1-8A59-4B5047C05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5406-35DF-4D42-A38F-2EA4EF164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7ADE-95A6-49D7-B047-DDBC8DF19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6817-238A-4E6A-850E-6F8A62B3D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4291-C9A9-4554-BF17-3A6AEEF73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CEB0-5093-432F-931D-65C8AC437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D0EE-BB05-41BE-B080-72D119748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A40B-851F-4BDE-917E-3103A8104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4B86-7B9A-4528-B15E-73CC49246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CA65-6437-4D3E-83B4-A435A7FA3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6ECB-7686-48D9-8F9C-4B524E074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4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700"/>
            </a:b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g    k    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E258-51E3-430A-BA40-1FBBB9323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229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6"/>
          <p:cNvSpPr txBox="1"/>
          <p:nvPr/>
        </p:nvSpPr>
        <p:spPr>
          <a:xfrm>
            <a:off x="2484360" y="2565360"/>
            <a:ext cx="4392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B874-3970-4BA2-B178-C1EC500A3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男孩在路上帮奶奶推车，路人问小红“帮推车的是你弟弟吗？”小红说“不是。”请问那个男孩是小红的什么？ 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1_201004180558502teFZ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659640" y="4076640"/>
            <a:ext cx="2163600" cy="257328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674B-9952-45E7-BE88-B884C855E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种动物小的时候没有腿，长大了有四条腿，还变 了名字叫青蛙，请问它小时候叫什么？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1_2010041805585018IV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732720" y="4797360"/>
            <a:ext cx="2087280" cy="175428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1379-BA3A-462D-8AD4-4312F611F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230_091039E4"/>
          <p:cNvPicPr/>
          <p:nvPr/>
        </p:nvPicPr>
        <p:blipFill>
          <a:blip r:embed="rId1"/>
          <a:stretch/>
        </p:blipFill>
        <p:spPr>
          <a:xfrm>
            <a:off x="0" y="0"/>
            <a:ext cx="8964720" cy="31417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5"/>
          <p:cNvSpPr/>
          <p:nvPr/>
        </p:nvSpPr>
        <p:spPr>
          <a:xfrm>
            <a:off x="611280" y="407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只动物在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" descr="0f69ce3d852686694e63260a62c898a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940360" y="4365720"/>
            <a:ext cx="2657520" cy="216036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4029-3015-42F4-951C-E75E0378F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gkh"/>
          <p:cNvPicPr/>
          <p:nvPr/>
        </p:nvPicPr>
        <p:blipFill>
          <a:blip r:embed="rId1"/>
          <a:srcRect l="0" t="0" r="2052" b="0"/>
          <a:stretch/>
        </p:blipFill>
        <p:spPr>
          <a:xfrm>
            <a:off x="-181080" y="-171360"/>
            <a:ext cx="9506160" cy="71722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5"/>
          <p:cNvSpPr/>
          <p:nvPr/>
        </p:nvSpPr>
        <p:spPr>
          <a:xfrm>
            <a:off x="3492360" y="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700360" y="2924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3924360" y="537372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3FD0-E088-4C2F-8A1B-08C60765D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39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20140118133113555"/>
          <p:cNvPicPr/>
          <p:nvPr/>
        </p:nvPicPr>
        <p:blipFill>
          <a:blip r:embed="rId2"/>
          <a:stretch/>
        </p:blipFill>
        <p:spPr>
          <a:xfrm>
            <a:off x="250920" y="0"/>
            <a:ext cx="8642160" cy="67057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6"/>
          <p:cNvSpPr/>
          <p:nvPr/>
        </p:nvSpPr>
        <p:spPr>
          <a:xfrm>
            <a:off x="900000" y="11970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1116000" y="90792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  <a:ea typeface="隶书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3F44-FC6B-42C9-9348-39AC219B1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20140118133113302"/>
          <p:cNvPicPr/>
          <p:nvPr/>
        </p:nvPicPr>
        <p:blipFill>
          <a:blip r:embed="rId2"/>
          <a:stretch/>
        </p:blipFill>
        <p:spPr>
          <a:xfrm>
            <a:off x="0" y="0"/>
            <a:ext cx="8893080" cy="66657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6"/>
          <p:cNvSpPr/>
          <p:nvPr/>
        </p:nvSpPr>
        <p:spPr>
          <a:xfrm>
            <a:off x="6659640" y="436572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0509-5BFA-45CE-9F72-53775C216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823935860778015"/>
          <p:cNvPicPr/>
          <p:nvPr/>
        </p:nvPicPr>
        <p:blipFill>
          <a:blip r:embed="rId2"/>
          <a:stretch/>
        </p:blipFill>
        <p:spPr>
          <a:xfrm>
            <a:off x="430200" y="-387360"/>
            <a:ext cx="8713800" cy="74278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00000" y="9079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0D99-2A26-432C-90FB-5712EC2DC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WordArt 5" descr=""/>
          <p:cNvPicPr/>
          <p:nvPr/>
        </p:nvPicPr>
        <p:blipFill>
          <a:blip r:embed="rId1"/>
          <a:stretch/>
        </p:blipFill>
        <p:spPr>
          <a:xfrm>
            <a:off x="-687240" y="1909800"/>
            <a:ext cx="2698560" cy="262728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14"/>
          <p:cNvGrpSpPr/>
          <p:nvPr/>
        </p:nvGrpSpPr>
        <p:grpSpPr>
          <a:xfrm>
            <a:off x="2484360" y="692280"/>
            <a:ext cx="5904000" cy="5330520"/>
            <a:chOff x="2484360" y="692280"/>
            <a:chExt cx="5904000" cy="5330520"/>
          </a:xfrm>
        </p:grpSpPr>
        <p:pic>
          <p:nvPicPr>
            <p:cNvPr id="494" name="Picture 9" descr=""/>
            <p:cNvPicPr/>
            <p:nvPr/>
          </p:nvPicPr>
          <p:blipFill>
            <a:blip r:embed="rId2"/>
            <a:stretch/>
          </p:blipFill>
          <p:spPr>
            <a:xfrm>
              <a:off x="2484360" y="692280"/>
              <a:ext cx="575964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8" descr=""/>
            <p:cNvPicPr/>
            <p:nvPr/>
          </p:nvPicPr>
          <p:blipFill>
            <a:blip r:embed="rId3"/>
            <a:srcRect l="25634" t="36196" r="34490" b="58089"/>
            <a:stretch/>
          </p:blipFill>
          <p:spPr>
            <a:xfrm>
              <a:off x="2484360" y="1197000"/>
              <a:ext cx="583272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0" descr=""/>
            <p:cNvPicPr/>
            <p:nvPr/>
          </p:nvPicPr>
          <p:blipFill>
            <a:blip r:embed="rId4"/>
            <a:srcRect l="25634" t="48477" r="34490" b="46641"/>
            <a:stretch/>
          </p:blipFill>
          <p:spPr>
            <a:xfrm>
              <a:off x="2556000" y="2421000"/>
              <a:ext cx="58323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1" descr=""/>
            <p:cNvPicPr/>
            <p:nvPr/>
          </p:nvPicPr>
          <p:blipFill>
            <a:blip r:embed="rId5"/>
            <a:srcRect l="25634" t="59098" r="34490" b="36004"/>
            <a:stretch/>
          </p:blipFill>
          <p:spPr>
            <a:xfrm>
              <a:off x="2484360" y="3500280"/>
              <a:ext cx="58327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2" descr=""/>
            <p:cNvPicPr/>
            <p:nvPr/>
          </p:nvPicPr>
          <p:blipFill>
            <a:blip r:embed="rId6"/>
            <a:srcRect l="25634" t="68908" r="34490" b="26195"/>
            <a:stretch/>
          </p:blipFill>
          <p:spPr>
            <a:xfrm>
              <a:off x="2556000" y="4508640"/>
              <a:ext cx="5832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3" descr=""/>
            <p:cNvPicPr/>
            <p:nvPr/>
          </p:nvPicPr>
          <p:blipFill>
            <a:blip r:embed="rId7"/>
            <a:srcRect l="25634" t="79544" r="34490" b="15539"/>
            <a:stretch/>
          </p:blipFill>
          <p:spPr>
            <a:xfrm>
              <a:off x="2556000" y="5589720"/>
              <a:ext cx="5832360" cy="43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DB93-EFCC-4C08-8D1B-763130C48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01:28:26Z</dcterms:created>
  <dc:creator/>
  <dc:description/>
  <cp:keywords/>
  <dc:language>en-US</dc:language>
  <cp:lastModifiedBy>User</cp:lastModifiedBy>
  <dcterms:modified xsi:type="dcterms:W3CDTF">2016-10-05T12:13:51Z</dcterms:modified>
  <cp:revision>43</cp:revision>
  <dc:subject/>
  <dc:title>  g    k    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